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42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3.png" ContentType="image/png"/>
  <Override PartName="/ppt/media/image33.png" ContentType="image/png"/>
  <Override PartName="/ppt/media/image31.png" ContentType="image/png"/>
  <Override PartName="/ppt/media/image11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38.wmf" ContentType="image/x-wmf"/>
  <Override PartName="/ppt/media/image40.png" ContentType="image/png"/>
  <Override PartName="/ppt/media/image41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10.png" ContentType="image/png"/>
  <Override PartName="/ppt/media/image28.wmf" ContentType="image/x-wmf"/>
  <Override PartName="/ppt/media/image36.png" ContentType="image/png"/>
  <Override PartName="/ppt/media/image47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dt" idx="3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ftr" idx="3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 type="sldNum" idx="3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49109C-14D8-4158-8CBB-413CA5041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6C7BB1-AAFA-4743-AC22-0374CBE1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CD370A-3FE1-461C-BC6D-160AB5FE1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3830E0-304B-47A2-BAEF-233E2C559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0FFA22-8972-4B7A-B1BB-32FEAE721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B6431F-85D1-4733-8B20-7DF302C72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21A6EE-8792-48D1-905F-DCF542437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28A32D-4F80-45C6-953D-0C79B54D1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77CDE-0B14-456B-A020-5D282C4A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2D370-2FF2-4563-867E-9B952D3D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FDB84-F5AD-4A0C-B5E1-CE264390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56205-0BA3-442B-AFE0-EDB225D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9F794-A0CC-4206-8C37-F310F90C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CEBC0-34BD-4AD8-8207-3D5A3CD4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99AA-3375-467B-AB65-DC0A029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5BEE0-CB29-484D-88F7-F33CCD98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2E754-C21D-47FB-A825-6969A1C4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D69E3-0412-4FBB-BFAA-6A0D1CAA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A48C4-F98E-412F-A6CF-6E6E4CB5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1757-FD25-4888-AF20-632B5A84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26DD2-C3F5-4FFB-9836-AE24F5F5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31AF2-72B6-4716-AEE2-3373F99C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973AB-857E-48C2-95EA-629C3FCB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E4BEB-F2A8-420B-87D9-37ACDFD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7FD90-7B6A-4A0D-B945-9BB42BE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F5938-2B10-4F14-AD3D-DD49BAF8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C9E94-B433-4685-A0F2-F2B68D95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B7CE7-0189-44D3-88D3-A68635CF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BC7E7-697A-4D40-8E69-BBE0F00F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E45F4-D3D8-4769-97DA-AE1EF978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B3BC8-D2FF-457B-9076-8A83C742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7B5E6-2107-443C-856E-D80F9D6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6367E-75E3-4897-946D-44079A9C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93257-196A-42C3-A286-A684189F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C1E78-155B-41E4-9C56-74E023AF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AA836-C7BD-4A81-8334-08743C32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63290-1041-43AE-9EFF-E6EB589C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C5794-9BE1-42B9-B558-46FE51A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5DBFD-4E22-4445-B8BF-B35A94AB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05E81-936A-4934-B6A3-1A0B9648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FE8F8-45B8-4BC5-9582-DA96D6AE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D703E-9219-4FEC-AD57-44A6C781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C4580-27D7-4A1D-93E1-4229977C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FAA9F-FFD5-4BE5-96C1-565CF183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9E3C5-325E-4A5E-81E6-2A50B117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FE3FE-2A2C-4785-B957-78B97CD8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9484C-2677-4A9F-BE98-AF76FDD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FCC22-4852-47C1-9603-55509C67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ADA41-4DAC-4C5C-88DF-FE2F7FA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41D89-AF22-4CF2-8FCE-A5D6809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9AE5D-B6EC-4477-B91A-586092A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29141-0ED6-4C45-B1F2-7FC24FBC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A9B38-EEB2-43C8-897D-9058FC43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98D-3B3B-43BF-B95D-7CC80A04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752-BEAC-489C-A13C-5E38D52E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8E7-1E00-475B-A2FC-DA7635D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384-9731-4FB5-BD30-230EC2AB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E54-B704-4B04-888A-8549DB2F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78E-F60C-4D80-A852-BDCADA17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BC9-9D03-43C0-9094-1EA7510D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A19-FF74-44C5-BAD3-2C2BFC67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92D-8F22-4FF4-93EC-E0BD1098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48E-DC23-4510-87EB-73DE88C2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25A-DB26-4767-A9A7-C2A6D002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BF8-521D-4E01-93FB-BB507471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604A-E19D-4D9E-A7AE-3332F3E9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63BD-9E7B-46AE-8783-3878940A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9594-730B-4395-A925-6329030A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5258-4C83-4B6C-BA7D-A9B24D0B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0A2F-0B8C-4C50-A375-683C0862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702F-1BB3-45BA-AA6C-08232AC6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8D11-173E-43D1-80BC-DB3F0C1C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5986-02A9-41EC-B59C-B67A1221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5A96-AA20-4DD4-90BF-28A32CB4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582F-D3FB-4355-A9AE-AB43795C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AA51-75FC-480C-B6F8-41B4AF88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F9AC-2962-4408-BB64-20C48AEE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53DA2-5A14-4ECB-98A7-C55E3BF9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502D-E3E9-4DA3-91D1-2472A469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3121-E6F9-4EE0-A52A-2C858F4A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8B73-27C0-42D4-8498-C352CD4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9664-A0AF-42F1-AC93-356B89D2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209C-EAE0-4E73-B2D7-065D9BAA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6CED-A994-424A-8162-F678C8D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0E99-089B-44EB-930C-5806687C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3B99-AB5C-404C-9402-B6DE7F72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CB1E-BC64-4263-A1E5-D533B327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D51EA-AD13-44CA-ABF8-AFF4D139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A7A2-E8C8-44BC-9E63-0F76A901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2918-F1F8-4511-8B43-478A4B24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F088A-2C16-4F94-A390-ECB34782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3E1F-2DB0-4BE3-A21A-C5715E00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F4A89-A7C0-460C-A484-503EBAB7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1C180-01E8-422A-8360-DCF531BB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7F4E-9565-4AE5-BB19-577AC250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44A8-D0DC-4919-8177-89620845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3E35-50E7-440D-AC24-70437A0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5C53-ED08-41F0-8DCA-2367874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0DA3-8B99-4939-9986-3858DA1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17795-4B1C-4D60-AB92-8DEB5B30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BEBB-42ED-4DEA-A655-EE3D1B36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885E-964A-4E3E-B14A-2B6ABCC9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0158-FD38-42B6-B2E4-B31A6ADF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3890F-FFE0-471C-8CC9-18F38BA0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FE3B9-2CD6-44FB-8103-301C2026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7E3B9-25D2-4546-9A8A-1CAB9CD5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CB2AB-FD80-424D-91C7-24C230D8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90C0F-92C4-479E-9DF0-1FD5516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390C8-31E4-4A79-B55D-F7D32918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9D4F1-FB48-4381-9411-F8D7E1EF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32A9B-A242-4E9C-9679-3D7649A3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42EBD-A592-4BE3-A390-5DDA58BD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21B29-EE8B-42F5-B16E-D79B71C8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E170C-1C44-49FD-862A-E7883263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19F9-8F6F-4696-80BB-5EB10061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413F-9D05-45F9-893C-3B3A1AD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CAEA-3BB1-47FD-AD31-2977174A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A1FE-8883-4852-BE5E-B1D0D591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42CCF-CFA0-493D-A4CA-43B534C0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BC40-144F-4EE1-9CEF-4AC5473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6BBC8-8FFF-4CE6-8BE4-C00F0CD0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6A6BC-41FA-4FCD-865E-DF7BC949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F521B-98DE-4A7C-A693-67258521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A141F-471C-4F9E-B39E-C4F4D7BC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7BFC9-DDE7-416A-AC82-DE32B227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FC42D-B557-4A2E-91BD-32B078B5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7B3A-DACA-46FF-8FAB-67E392EE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1FF1-6BD5-485C-B1AA-D7C2726B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E40518BA-1032-448D-B652-39401043F28F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0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0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5C78EBCB-FAC0-430B-A110-9F089636DA31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359B-CDF5-458D-9DC8-CCAFFA136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7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7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60AC5735-CBB7-4CB6-A907-F5DDDD5002C8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83F2-B113-4ADA-8CFD-7C1B223C52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4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74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76E9229D-1F42-489F-A0FE-907528C9AEB0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C42-84A4-44FE-9505-AC682B4BDD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2720"/>
            <a:chOff x="-3600" y="2438280"/>
            <a:chExt cx="9147240" cy="106272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8960"/>
              <a:ext cx="9146880" cy="1022040"/>
              <a:chOff x="-3240" y="2478960"/>
              <a:chExt cx="9146880" cy="102204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95720" y="-1582920"/>
                <a:ext cx="977040" cy="9118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77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9664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8320" y="2797560"/>
                <a:ext cx="976680" cy="4042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101000" y="274320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53440" y="2689200"/>
                <a:ext cx="977040" cy="574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9120" y="2756160"/>
                <a:ext cx="989640" cy="4996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81960" y="2635560"/>
                <a:ext cx="976680" cy="6681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600360" y="263376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54920" y="2789640"/>
                <a:ext cx="976680" cy="4046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05800" y="273528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611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9960" y="2723760"/>
                <a:ext cx="989640" cy="501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7071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2552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904320" y="2780640"/>
                <a:ext cx="977040" cy="40464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8960"/>
                <a:ext cx="461520" cy="9784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8480"/>
                  <a:gd name="textAreaBottom" fmla="*/ 978480 h 9784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1105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8120" y="2723760"/>
                <a:ext cx="989640" cy="5014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45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191400"/>
              <a:ext cx="9144360" cy="29592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685800" y="6019920"/>
            <a:ext cx="1066680" cy="59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934320" y="62485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3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3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908E2D36-4E3B-4596-9396-DDAD0417519C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B105-16BF-46A0-8619-7785217206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9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1BB249C8-CA18-4A50-B1B2-175F63A05866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80A8-4734-4AF2-A148-FF4AD58CD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6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6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860D39C9-F585-4126-A752-009EE7A9DE5B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9612-15D0-4474-AF93-6B9F27DB9F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3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33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6E9FE580-89DF-4D74-B971-389852ECC337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7E96-8526-44BA-9140-EBA018B605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0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0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259D052D-617F-44DC-8953-3829F98C82F4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8E0F-5369-42CE-B626-A06452BF09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7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7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11FCC2E6-1762-475D-BD5E-9B42DA9671DA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4B6E-7E94-4A64-A9A6-82D2A77B70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3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53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C37003AB-A30A-42FE-B1C7-A2CC80B1C06B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04D3-0609-46CC-AB26-FF2B592F0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166760" y="38858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aur"/>
              </a:rPr>
              <a:t>Family Economics &amp; Financial Education</a:t>
            </a:r>
            <a:endParaRPr b="0" lang="en-US" sz="2600" spc="-1" strike="noStrike">
              <a:solidFill>
                <a:srgbClr val="000000"/>
              </a:solidFill>
              <a:latin typeface="Centaur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aur"/>
              </a:rPr>
              <a:t>Take Charge of Your Finances </a:t>
            </a:r>
            <a:endParaRPr b="0" lang="en-US" sz="26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123720" y="3428640"/>
            <a:ext cx="403884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Late or Missed Payme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123720" y="4038480"/>
            <a:ext cx="4038840" cy="19051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am’s Electronic Worl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Past du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tore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Occasional late payment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counts Summa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67" name="TextBox 8"/>
          <p:cNvSpPr/>
          <p:nvPr/>
        </p:nvSpPr>
        <p:spPr>
          <a:xfrm>
            <a:off x="3200400" y="1600200"/>
            <a:ext cx="3505320" cy="13136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DOES ISAB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HAVE ANY LATE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MISSED PAY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ON ACCOUNT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5411880" y="1981080"/>
            <a:ext cx="1217520" cy="990720"/>
          </a:xfrm>
          <a:prstGeom prst="rect">
            <a:avLst/>
          </a:prstGeom>
          <a:ln w="0">
            <a:noFill/>
          </a:ln>
        </p:spPr>
      </p:pic>
      <p:sp>
        <p:nvSpPr>
          <p:cNvPr id="869" name="Straight Connector 12"/>
          <p:cNvSpPr/>
          <p:nvPr/>
        </p:nvSpPr>
        <p:spPr>
          <a:xfrm>
            <a:off x="3124080" y="4038480"/>
            <a:ext cx="4038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066680" y="1294920"/>
            <a:ext cx="3430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Public Record Item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1066680" y="1904760"/>
            <a:ext cx="34308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ccounts turned over to collection agenci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ublic record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ankruptcy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ax lie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Legal suit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oreclosur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66084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Public Record Item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025600" y="2174760"/>
            <a:ext cx="3660840" cy="395136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ity of Anywhere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n Collectio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4" name="Title 3"/>
          <p:cNvSpPr/>
          <p:nvPr/>
        </p:nvSpPr>
        <p:spPr>
          <a:xfrm>
            <a:off x="914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ublic record items related to cred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Box 10"/>
          <p:cNvSpPr/>
          <p:nvPr/>
        </p:nvSpPr>
        <p:spPr>
          <a:xfrm>
            <a:off x="1066680" y="4724280"/>
            <a:ext cx="3505320" cy="192276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DENTIF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UBLIC RECORD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N ISABELL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581280" y="5504040"/>
            <a:ext cx="914400" cy="744480"/>
          </a:xfrm>
          <a:prstGeom prst="rect">
            <a:avLst/>
          </a:prstGeom>
          <a:ln w="0">
            <a:noFill/>
          </a:ln>
        </p:spPr>
      </p:pic>
      <p:sp>
        <p:nvSpPr>
          <p:cNvPr id="877" name="Straight Connector 13"/>
          <p:cNvSpPr/>
          <p:nvPr/>
        </p:nvSpPr>
        <p:spPr>
          <a:xfrm>
            <a:off x="5029200" y="2209680"/>
            <a:ext cx="365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Inquiri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quests for an individual’s credit repor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mpleted by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surance agen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otential credit compan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inancial institut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andlord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otential employers, etc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5334120" y="4495680"/>
            <a:ext cx="3504960" cy="1557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NQUI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OES IS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AV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ER RE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545240" y="4800600"/>
            <a:ext cx="1217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Inquiri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1295280" y="1523880"/>
          <a:ext cx="7696440" cy="4754520"/>
        </p:xfrm>
        <a:graphic>
          <a:graphicData uri="http://schemas.openxmlformats.org/drawingml/2006/table">
            <a:tbl>
              <a:tblPr/>
              <a:tblGrid>
                <a:gridCol w="2041560"/>
                <a:gridCol w="3089520"/>
                <a:gridCol w="25653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Not all credit inquiries are the sam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ype of inqui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ft che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ard che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Do they impact your credit scor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Not usu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dividuals checking their credit repo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edit card companies pre-approving individu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e-employment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ermission given by the individual when seeking cred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edit c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utomobile l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su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grpSp>
        <p:nvGrpSpPr>
          <p:cNvPr id="884" name="TextBox 10"/>
          <p:cNvGrpSpPr/>
          <p:nvPr/>
        </p:nvGrpSpPr>
        <p:grpSpPr>
          <a:xfrm>
            <a:off x="1238400" y="5888160"/>
            <a:ext cx="7808760" cy="698040"/>
            <a:chOff x="1238400" y="5888160"/>
            <a:chExt cx="7808760" cy="698040"/>
          </a:xfrm>
        </p:grpSpPr>
        <p:pic>
          <p:nvPicPr>
            <p:cNvPr id="885" name="TextBox 10" descr=""/>
            <p:cNvPicPr/>
            <p:nvPr/>
          </p:nvPicPr>
          <p:blipFill>
            <a:blip r:embed="rId1"/>
            <a:stretch/>
          </p:blipFill>
          <p:spPr>
            <a:xfrm>
              <a:off x="1238400" y="5888160"/>
              <a:ext cx="7808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295280" y="5943600"/>
              <a:ext cx="769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aur"/>
                </a:rPr>
                <a:t>Individuals should avoid too many hard credit checks at one time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sabella’s Repor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206360" y="1676520"/>
          <a:ext cx="7696440" cy="2468520"/>
        </p:xfrm>
        <a:graphic>
          <a:graphicData uri="http://schemas.openxmlformats.org/drawingml/2006/table">
            <a:tbl>
              <a:tblPr/>
              <a:tblGrid>
                <a:gridCol w="2041560"/>
                <a:gridCol w="3089520"/>
                <a:gridCol w="25653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Inqui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ype of inqui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ft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ard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 Very Big 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Need More Cred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Keeping You Insu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he Dream Sales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hop ‘Til You Dr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Medical Information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90" name="Content Placeholder 3" descr=""/>
          <p:cNvPicPr/>
          <p:nvPr/>
        </p:nvPicPr>
        <p:blipFill>
          <a:blip r:embed="rId1"/>
          <a:stretch/>
        </p:blipFill>
        <p:spPr>
          <a:xfrm>
            <a:off x="1189080" y="1657440"/>
            <a:ext cx="7808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Equal Credit Opportunity 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06000" y="1676520"/>
            <a:ext cx="740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hibits credit discrimination on the basis of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rital statu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Gender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grpSp>
        <p:nvGrpSpPr>
          <p:cNvPr id="893" name="Rectangle 9"/>
          <p:cNvGrpSpPr/>
          <p:nvPr/>
        </p:nvGrpSpPr>
        <p:grpSpPr>
          <a:xfrm>
            <a:off x="5443560" y="2571840"/>
            <a:ext cx="3505320" cy="3103920"/>
            <a:chOff x="5443560" y="2571840"/>
            <a:chExt cx="3505320" cy="3103920"/>
          </a:xfrm>
        </p:grpSpPr>
        <p:pic>
          <p:nvPicPr>
            <p:cNvPr id="894" name="Rectangle 9" descr=""/>
            <p:cNvPicPr/>
            <p:nvPr/>
          </p:nvPicPr>
          <p:blipFill>
            <a:blip r:embed="rId1"/>
            <a:stretch/>
          </p:blipFill>
          <p:spPr>
            <a:xfrm>
              <a:off x="5443560" y="2571840"/>
              <a:ext cx="350532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562720" y="2655720"/>
              <a:ext cx="3200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aur"/>
                </a:rPr>
                <a:t>Creditors may ask for this information (except religion) in certain situations, but may not use it to discriminate when deciding whether to grant you cr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Scor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1143000" y="1494000"/>
            <a:ext cx="7620120" cy="548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thematical tool created to help a lender evaluate the risk associated with lending a consumer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ased upon information in the credit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t a particular point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umeric “grade” of a consumer’s financial reli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ed by lenders to determine a consumer’s risk of defaulting on a lo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73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Scor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36720" y="2362320"/>
            <a:ext cx="493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ost common scoring system is FICO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scores range from 300-850, with 850 being the best score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0" name="TextBox 4"/>
          <p:cNvSpPr/>
          <p:nvPr/>
        </p:nvSpPr>
        <p:spPr>
          <a:xfrm>
            <a:off x="6095880" y="2895480"/>
            <a:ext cx="274320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ABELLA’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620120" y="2971800"/>
            <a:ext cx="1217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Score Imp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1523880" y="1676520"/>
          <a:ext cx="7010640" cy="3022560"/>
        </p:xfrm>
        <a:graphic>
          <a:graphicData uri="http://schemas.openxmlformats.org/drawingml/2006/table">
            <a:tbl>
              <a:tblPr/>
              <a:tblGrid>
                <a:gridCol w="1752840"/>
                <a:gridCol w="1755720"/>
                <a:gridCol w="1755720"/>
                <a:gridCol w="1746360"/>
              </a:tblGrid>
              <a:tr h="7606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THIS IS BASED UPON A 30 YEAR FIXED MORTGAGE RATE FOR A $300,000 L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solidFill>
                      <a:srgbClr val="e1e1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FICO 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Interest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Monthly Pa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30 Year 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5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1,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643,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2,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736,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5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9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9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4" name="TextBox 4"/>
          <p:cNvSpPr/>
          <p:nvPr/>
        </p:nvSpPr>
        <p:spPr>
          <a:xfrm>
            <a:off x="1600200" y="4952880"/>
            <a:ext cx="6934320" cy="947160"/>
          </a:xfrm>
          <a:prstGeom prst="rect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aur"/>
              </a:rPr>
              <a:t>$256,680 saved over the lifetime of this loan because of a good credit sco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Report Detectiv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06000" y="1676160"/>
            <a:ext cx="4660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2"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eet Isabella, your new client: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bout to graduate from colle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 extreme deb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ncerned about finding a job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oesn’t understand her credit repor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20" name="Picture 3" descr="C:\Documents and Settings\Nicole Chinadle\Local Settings\Temporary Internet Files\Content.IE5\ZCAAAMQ4\MPj04395170000[1].jpg"/>
          <p:cNvPicPr/>
          <p:nvPr/>
        </p:nvPicPr>
        <p:blipFill>
          <a:blip r:embed="rId1"/>
          <a:stretch/>
        </p:blipFill>
        <p:spPr>
          <a:xfrm>
            <a:off x="5919840" y="1981080"/>
            <a:ext cx="2814480" cy="166392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1295280" y="4343400"/>
            <a:ext cx="7467840" cy="192276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YOUR 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aur"/>
              </a:rPr>
              <a:t>Help Isabella understand her credit report, identif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aur"/>
              </a:rPr>
              <a:t>what she did to get into this situation, and dec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aur"/>
              </a:rPr>
              <a:t>what  she can do to improve her credit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7162920" y="4648320"/>
            <a:ext cx="15238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How Credit Scores are Determined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06" name="Content Placeholder 3" descr=""/>
          <p:cNvPicPr/>
          <p:nvPr/>
        </p:nvPicPr>
        <p:blipFill>
          <a:blip r:embed="rId1"/>
          <a:stretch/>
        </p:blipFill>
        <p:spPr>
          <a:xfrm>
            <a:off x="1139760" y="1822320"/>
            <a:ext cx="7858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aymen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timely manner in which a consumer did or did not repay deb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everal types of credit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ate or missed payme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ublic records and collection item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09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aymen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168520" y="1676160"/>
            <a:ext cx="3809880" cy="464796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und in status colum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ayment histo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am’s Electronic World is past due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City of Anywhere is in collection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hop ‘Til You Drop has occasional late payment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Love to Read was closed and never late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he Free Money Credit Card is paid on time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score impac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oo many late account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12120" indent="-312120">
              <a:spcBef>
                <a:spcPts val="4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12" name="TextBox 4"/>
          <p:cNvSpPr/>
          <p:nvPr/>
        </p:nvSpPr>
        <p:spPr>
          <a:xfrm>
            <a:off x="1066680" y="1676520"/>
            <a:ext cx="3733920" cy="82548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S ISABELL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AYMENT HIST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962520" y="1828800"/>
            <a:ext cx="655560" cy="533520"/>
          </a:xfrm>
          <a:prstGeom prst="rect">
            <a:avLst/>
          </a:prstGeom>
          <a:ln w="0">
            <a:noFill/>
          </a:ln>
        </p:spPr>
      </p:pic>
      <p:sp>
        <p:nvSpPr>
          <p:cNvPr id="914" name="TextBox 6"/>
          <p:cNvSpPr/>
          <p:nvPr/>
        </p:nvSpPr>
        <p:spPr>
          <a:xfrm>
            <a:off x="1066680" y="274320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OES THIS HAV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ER CREDIT 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657600" y="2895480"/>
            <a:ext cx="1030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Outstanding Deb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total dollar amount of debt currently hel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cludes balances on all reported account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en a high percentage of debt is used, then it negatively impacts a scor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18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Outstanding Deb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5168520" y="1676520"/>
            <a:ext cx="3809880" cy="45720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otal deb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ound in recent balance colum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37,325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vailable credi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ound in credit limit colum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37,546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37,546-$37,325 = $221   she is using almost all her available credi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1" name="TextBox 4"/>
          <p:cNvSpPr/>
          <p:nvPr/>
        </p:nvSpPr>
        <p:spPr>
          <a:xfrm>
            <a:off x="1066680" y="167652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OW MUCH TOTAL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EBT DOES IS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923" name="TextBox 6"/>
          <p:cNvSpPr/>
          <p:nvPr/>
        </p:nvSpPr>
        <p:spPr>
          <a:xfrm>
            <a:off x="1066680" y="312408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OW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VAILABLE CRED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ABELLA U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787920" y="3276720"/>
            <a:ext cx="936360" cy="761760"/>
          </a:xfrm>
          <a:prstGeom prst="rect">
            <a:avLst/>
          </a:prstGeom>
          <a:ln w="0">
            <a:noFill/>
          </a:ln>
        </p:spPr>
      </p:pic>
      <p:sp>
        <p:nvSpPr>
          <p:cNvPr id="925" name="TextBox 8"/>
          <p:cNvSpPr/>
          <p:nvPr/>
        </p:nvSpPr>
        <p:spPr>
          <a:xfrm>
            <a:off x="1066680" y="457200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MPAC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THIS HAVE ON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REDIT 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Picture 4" descr="C:\Documents and Settings\Nicole Chinadle\Local Settings\Temporary Internet Files\Content.IE5\249DHPEV\MCj02958730000[1].wmf"/>
          <p:cNvPicPr/>
          <p:nvPr/>
        </p:nvPicPr>
        <p:blipFill>
          <a:blip r:embed="rId3"/>
          <a:stretch/>
        </p:blipFill>
        <p:spPr>
          <a:xfrm>
            <a:off x="3787920" y="472428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Length  of Credi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gth of time a consumer has held credit account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cludes how long ago credit accounts were establish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 longer credit history will generally increase a credit scor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29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Length of Credi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168520" y="1676520"/>
            <a:ext cx="3809880" cy="41148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histo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ound in date opened colum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08/05 U.S. Dept. of Educ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ee Money Credit Car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core will improv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2" name="TextBox 4"/>
          <p:cNvSpPr/>
          <p:nvPr/>
        </p:nvSpPr>
        <p:spPr>
          <a:xfrm>
            <a:off x="1066680" y="167652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EN DID IS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FIRST BEGIN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REDIT HIST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934" name="TextBox 6"/>
          <p:cNvSpPr/>
          <p:nvPr/>
        </p:nvSpPr>
        <p:spPr>
          <a:xfrm>
            <a:off x="1066680" y="3048120"/>
            <a:ext cx="3733920" cy="265428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F ISABELLA KEEPS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FREE MONEY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ARD OPE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NOTHER 10 YEARS AND P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OFF THE BALANCE, WHAT WILL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886200" y="3200400"/>
            <a:ext cx="8380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ursuit of New Credi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ssesses how many accounts have been opened recently and the type of accoun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1680" indent="-3016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cludes the number of recently opened accounts as well as requests for new credi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1680" indent="-3016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Opening too many types of accounts in a short period of time has a negative affec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38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New Credi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168520" y="1676520"/>
            <a:ext cx="3809880" cy="41148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ditional cred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hop ‘Til You Drop in August 2008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mpact of seeking additional cred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score will go dow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1066680" y="1676520"/>
            <a:ext cx="3733920" cy="1557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AS IS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URSUED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DDITIONAL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SINCE JANUARY 200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943" name="TextBox 6"/>
          <p:cNvSpPr/>
          <p:nvPr/>
        </p:nvSpPr>
        <p:spPr>
          <a:xfrm>
            <a:off x="1066680" y="3505320"/>
            <a:ext cx="3733920" cy="30200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F ISABELLA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NOTHER CR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ARD AND SHOPP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N AUTOMOBILE LOAN, WHAT WOULD HAPPEN TO HER 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4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787920" y="365760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Types of Credit in Us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nalyzes the types of credit in us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cards, retail cards, mortgages, automobile loans, etc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Variety is generally good to hav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47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The Credit Proces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24" name="Content Placeholder 4" descr=""/>
          <p:cNvPicPr/>
          <p:nvPr/>
        </p:nvPicPr>
        <p:blipFill>
          <a:blip r:embed="rId1"/>
          <a:stretch/>
        </p:blipFill>
        <p:spPr>
          <a:xfrm>
            <a:off x="1152360" y="2359080"/>
            <a:ext cx="8015400" cy="394956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"/>
          <p:cNvSpPr/>
          <p:nvPr/>
        </p:nvSpPr>
        <p:spPr>
          <a:xfrm>
            <a:off x="1143000" y="1523880"/>
            <a:ext cx="75438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Credit</a:t>
            </a: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 – when goods, services, and/or money are received in exchange for a promise to pay back a definite sum of money at a future da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in Us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5168520" y="1676520"/>
            <a:ext cx="3809880" cy="41148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card (revolving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chool loan (installment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ivate school loan (installment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tore cards (revolving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ditional for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rtga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utomobile loa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0" name="TextBox 4"/>
          <p:cNvSpPr/>
          <p:nvPr/>
        </p:nvSpPr>
        <p:spPr>
          <a:xfrm>
            <a:off x="1066680" y="167652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REDIT DO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ABELLA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952" name="TextBox 6"/>
          <p:cNvSpPr/>
          <p:nvPr/>
        </p:nvSpPr>
        <p:spPr>
          <a:xfrm>
            <a:off x="1066680" y="3200400"/>
            <a:ext cx="3733920" cy="1557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DDITIONA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OF CREDIT SHE MAY S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787920" y="335268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nformation not included in a FICO scor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367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ICO scor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aur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based upon credit us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formation not included i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ersonal information such as age, where you live, marital status, race, color, religion, national origin, gend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mployment inform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terest rates charged on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Overall wealth (assets an individual may have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6" name="TextBox 3"/>
          <p:cNvSpPr/>
          <p:nvPr/>
        </p:nvSpPr>
        <p:spPr>
          <a:xfrm>
            <a:off x="1066680" y="5257800"/>
            <a:ext cx="7848720" cy="11912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These variables may still be considered when a le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reviews a loan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ositive vs. Negative Credit Imp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90360" y="1534680"/>
            <a:ext cx="35067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990360" y="2174760"/>
            <a:ext cx="35067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forms the lender a consumer is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inancially responsibl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Less risk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Benefits to the consum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Lower interest rat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Access to additional credi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178240" y="1534680"/>
            <a:ext cx="3508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5178240" y="2174760"/>
            <a:ext cx="3508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forms the lender a consumer is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Not financially responsibl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be a higher risk 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mpact on the consum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pay higher interest rat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not be able to qualify for credi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limit employment opportuniti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2" name="TextBox 10"/>
          <p:cNvSpPr/>
          <p:nvPr/>
        </p:nvSpPr>
        <p:spPr>
          <a:xfrm>
            <a:off x="1143000" y="502920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 ISABELLA A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OR A NEGATIVE RIS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940200" y="5257800"/>
            <a:ext cx="93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 - What You Do Makes a Differenc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structor will read a scenario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termine if the scenario will have a positive or negative impact on an individual’s credit repor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ove to the side of the room representing your selected answer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Be prepared to explain “why”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66" name="Picture 2" descr="C:\Documents and Settings\Nicole Chinadle\Local Settings\Temporary Internet Files\Content.IE5\P8XK4NBP\MPj04392370000[1].jpg"/>
          <p:cNvPicPr/>
          <p:nvPr/>
        </p:nvPicPr>
        <p:blipFill>
          <a:blip r:embed="rId1"/>
          <a:stretch/>
        </p:blipFill>
        <p:spPr>
          <a:xfrm>
            <a:off x="7086600" y="4084560"/>
            <a:ext cx="1546200" cy="2163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68" name="Content Placeholder 7" descr=""/>
          <p:cNvPicPr/>
          <p:nvPr/>
        </p:nvPicPr>
        <p:blipFill>
          <a:blip r:embed="rId1"/>
          <a:stretch/>
        </p:blipFill>
        <p:spPr>
          <a:xfrm>
            <a:off x="1189080" y="167004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2" descr="C:\Documents and Settings\Nicole Chinadle\Local Settings\Temporary Internet Files\Content.IE5\D5WHXGLG\MCj04325170000[1].wmf"/>
          <p:cNvPicPr/>
          <p:nvPr/>
        </p:nvPicPr>
        <p:blipFill>
          <a:blip r:embed="rId2"/>
          <a:stretch/>
        </p:blipFill>
        <p:spPr>
          <a:xfrm>
            <a:off x="4038480" y="4664160"/>
            <a:ext cx="1981440" cy="1584360"/>
          </a:xfrm>
          <a:prstGeom prst="rect">
            <a:avLst/>
          </a:prstGeom>
          <a:ln w="0">
            <a:noFill/>
          </a:ln>
        </p:spPr>
      </p:pic>
      <p:sp>
        <p:nvSpPr>
          <p:cNvPr id="970" name="TextBox 4"/>
          <p:cNvSpPr/>
          <p:nvPr/>
        </p:nvSpPr>
        <p:spPr>
          <a:xfrm>
            <a:off x="5943600" y="2514600"/>
            <a:ext cx="2438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Joey owes the store the money which was agreed upon in the contr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May be responsible for additional fe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He may be referred to col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72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2" descr="C:\Documents and Settings\Nicole Chinadle\Local Settings\Temporary Internet Files\Content.IE5\7SQD0UCH\MPj04308200000[1].jpg"/>
          <p:cNvPicPr/>
          <p:nvPr/>
        </p:nvPicPr>
        <p:blipFill>
          <a:blip r:embed="rId2"/>
          <a:stretch/>
        </p:blipFill>
        <p:spPr>
          <a:xfrm>
            <a:off x="4114800" y="4800600"/>
            <a:ext cx="1824120" cy="1370160"/>
          </a:xfrm>
          <a:prstGeom prst="rect">
            <a:avLst/>
          </a:prstGeom>
          <a:ln w="0">
            <a:noFill/>
          </a:ln>
        </p:spPr>
      </p:pic>
      <p:sp>
        <p:nvSpPr>
          <p:cNvPr id="974" name="TextBox 6"/>
          <p:cNvSpPr/>
          <p:nvPr/>
        </p:nvSpPr>
        <p:spPr>
          <a:xfrm>
            <a:off x="6019920" y="2971800"/>
            <a:ext cx="213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An excellent habit for building a positive re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76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2" descr="C:\Documents and Settings\Nicole Chinadle\Local Settings\Temporary Internet Files\Content.IE5\PORBKT84\MCBD05104_0000[1].wmf"/>
          <p:cNvPicPr/>
          <p:nvPr/>
        </p:nvPicPr>
        <p:blipFill>
          <a:blip r:embed="rId2"/>
          <a:stretch/>
        </p:blipFill>
        <p:spPr>
          <a:xfrm>
            <a:off x="4191120" y="4114800"/>
            <a:ext cx="1833480" cy="2147760"/>
          </a:xfrm>
          <a:prstGeom prst="rect">
            <a:avLst/>
          </a:prstGeom>
          <a:ln w="0">
            <a:noFill/>
          </a:ln>
        </p:spPr>
      </p:pic>
      <p:sp>
        <p:nvSpPr>
          <p:cNvPr id="978" name="TextBox 4"/>
          <p:cNvSpPr/>
          <p:nvPr/>
        </p:nvSpPr>
        <p:spPr>
          <a:xfrm>
            <a:off x="5943600" y="2438280"/>
            <a:ext cx="228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ernando is responsible for the movie re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uld be reported to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80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2" descr="C:\Documents and Settings\Nicole Chinadle\Local Settings\Temporary Internet Files\Content.IE5\ZS9IMRSD\MCj01988770000[1].wmf"/>
          <p:cNvPicPr/>
          <p:nvPr/>
        </p:nvPicPr>
        <p:blipFill>
          <a:blip r:embed="rId2"/>
          <a:stretch/>
        </p:blipFill>
        <p:spPr>
          <a:xfrm>
            <a:off x="4114800" y="4343400"/>
            <a:ext cx="1832040" cy="1868400"/>
          </a:xfrm>
          <a:prstGeom prst="rect">
            <a:avLst/>
          </a:prstGeom>
          <a:ln w="0">
            <a:noFill/>
          </a:ln>
        </p:spPr>
      </p:pic>
      <p:sp>
        <p:nvSpPr>
          <p:cNvPr id="982" name="TextBox 4"/>
          <p:cNvSpPr/>
          <p:nvPr/>
        </p:nvSpPr>
        <p:spPr>
          <a:xfrm>
            <a:off x="6019920" y="2514600"/>
            <a:ext cx="228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Cassie has probably already been referred to coll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Will owe for the parking tickets and additional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84" name="Content Placeholder 7" descr=""/>
          <p:cNvPicPr/>
          <p:nvPr/>
        </p:nvPicPr>
        <p:blipFill>
          <a:blip r:embed="rId1"/>
          <a:stretch/>
        </p:blipFill>
        <p:spPr>
          <a:xfrm>
            <a:off x="1279440" y="174960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3" descr="C:\Documents and Settings\Nicole Chinadle\Local Settings\Temporary Internet Files\Content.IE5\D5WHXGLG\MPj04013120000[1].jpg"/>
          <p:cNvPicPr/>
          <p:nvPr/>
        </p:nvPicPr>
        <p:blipFill>
          <a:blip r:embed="rId2"/>
          <a:stretch/>
        </p:blipFill>
        <p:spPr>
          <a:xfrm>
            <a:off x="4267080" y="4724280"/>
            <a:ext cx="2027520" cy="1351080"/>
          </a:xfrm>
          <a:prstGeom prst="rect">
            <a:avLst/>
          </a:prstGeom>
          <a:ln w="0">
            <a:noFill/>
          </a:ln>
        </p:spPr>
      </p:pic>
      <p:sp>
        <p:nvSpPr>
          <p:cNvPr id="986" name="TextBox 4"/>
          <p:cNvSpPr/>
          <p:nvPr/>
        </p:nvSpPr>
        <p:spPr>
          <a:xfrm>
            <a:off x="6019920" y="2590920"/>
            <a:ext cx="220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Demonstrated the ability to responsibly use cred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88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" descr="C:\Documents and Settings\Nicole Chinadle\Local Settings\Temporary Internet Files\Content.IE5\7SQD0UCH\MPj04223480000[1].jpg"/>
          <p:cNvPicPr/>
          <p:nvPr/>
        </p:nvPicPr>
        <p:blipFill>
          <a:blip r:embed="rId2"/>
          <a:stretch/>
        </p:blipFill>
        <p:spPr>
          <a:xfrm>
            <a:off x="4419720" y="4114800"/>
            <a:ext cx="1320840" cy="1981080"/>
          </a:xfrm>
          <a:prstGeom prst="rect">
            <a:avLst/>
          </a:prstGeom>
          <a:ln w="0">
            <a:noFill/>
          </a:ln>
        </p:spPr>
      </p:pic>
      <p:sp>
        <p:nvSpPr>
          <p:cNvPr id="990" name="TextBox 4"/>
          <p:cNvSpPr/>
          <p:nvPr/>
        </p:nvSpPr>
        <p:spPr>
          <a:xfrm>
            <a:off x="5943600" y="28954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lthough Corey is paying his bill, he is doing so l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sabella’s 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206360" y="3809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your analysis of her situation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es she need your help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28" name="Picture 3" descr="C:\Documents and Settings\Nicole Chinadle\Local Settings\Temporary Internet Files\Content.IE5\ZCAAAMQ4\MPj04395170000[1].jpg"/>
          <p:cNvPicPr/>
          <p:nvPr/>
        </p:nvPicPr>
        <p:blipFill>
          <a:blip r:embed="rId1"/>
          <a:stretch/>
        </p:blipFill>
        <p:spPr>
          <a:xfrm>
            <a:off x="6095880" y="1752480"/>
            <a:ext cx="2814840" cy="16639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7391520" y="4495680"/>
            <a:ext cx="1523880" cy="1239840"/>
          </a:xfrm>
          <a:prstGeom prst="rect">
            <a:avLst/>
          </a:prstGeom>
          <a:ln w="0">
            <a:noFill/>
          </a:ln>
        </p:spPr>
      </p:pic>
      <p:sp>
        <p:nvSpPr>
          <p:cNvPr id="830" name="TextBox 13"/>
          <p:cNvSpPr/>
          <p:nvPr/>
        </p:nvSpPr>
        <p:spPr>
          <a:xfrm>
            <a:off x="1447920" y="1787400"/>
            <a:ext cx="403848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N SMALL GROU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aur"/>
              </a:rPr>
              <a:t>READ ISABELLA’S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92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969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2" descr="C:\Documents and Settings\Nicole Chinadle\Local Settings\Temporary Internet Files\Content.IE5\ZCAAAMQ4\MCj0439795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2400480" cy="1567080"/>
          </a:xfrm>
          <a:prstGeom prst="rect">
            <a:avLst/>
          </a:prstGeom>
          <a:ln w="0">
            <a:noFill/>
          </a:ln>
        </p:spPr>
      </p:pic>
      <p:sp>
        <p:nvSpPr>
          <p:cNvPr id="994" name="TextBox 4"/>
          <p:cNvSpPr/>
          <p:nvPr/>
        </p:nvSpPr>
        <p:spPr>
          <a:xfrm>
            <a:off x="6019920" y="2438280"/>
            <a:ext cx="2286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All payments were made in ti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Having automatic withdrawals with the money in the account is a goo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96" name="Content Placeholder 7" descr=""/>
          <p:cNvPicPr/>
          <p:nvPr/>
        </p:nvPicPr>
        <p:blipFill>
          <a:blip r:embed="rId1"/>
          <a:stretch/>
        </p:blipFill>
        <p:spPr>
          <a:xfrm>
            <a:off x="1279440" y="174960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C:\Documents and Settings\Nicole Chinadle\Local Settings\Temporary Internet Files\Content.IE5\D5WHXGLG\MCj02377130000[1].wmf"/>
          <p:cNvPicPr/>
          <p:nvPr/>
        </p:nvPicPr>
        <p:blipFill>
          <a:blip r:embed="rId2"/>
          <a:stretch/>
        </p:blipFill>
        <p:spPr>
          <a:xfrm>
            <a:off x="4191120" y="4343400"/>
            <a:ext cx="1866960" cy="2001960"/>
          </a:xfrm>
          <a:prstGeom prst="rect">
            <a:avLst/>
          </a:prstGeom>
          <a:ln w="0">
            <a:noFill/>
          </a:ln>
        </p:spPr>
      </p:pic>
      <p:sp>
        <p:nvSpPr>
          <p:cNvPr id="998" name="TextBox 4"/>
          <p:cNvSpPr/>
          <p:nvPr/>
        </p:nvSpPr>
        <p:spPr>
          <a:xfrm>
            <a:off x="5867280" y="2763720"/>
            <a:ext cx="23623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This is too many inquiries for new credit at one time from a variety of types of sto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000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5" descr="C:\Documents and Settings\Nicole Chinadle\Local Settings\Temporary Internet Files\Content.IE5\P8XK4NBP\MCj04398290000[1].png"/>
          <p:cNvPicPr/>
          <p:nvPr/>
        </p:nvPicPr>
        <p:blipFill>
          <a:blip r:embed="rId2"/>
          <a:stretch/>
        </p:blipFill>
        <p:spPr>
          <a:xfrm>
            <a:off x="3581280" y="38862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002" name="TextBox 4"/>
          <p:cNvSpPr/>
          <p:nvPr/>
        </p:nvSpPr>
        <p:spPr>
          <a:xfrm>
            <a:off x="5867280" y="2743200"/>
            <a:ext cx="2438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A variety of types of credit may be good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however, Jessica’s balances are at the maximum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004" name="Content Placeholder 7" descr=""/>
          <p:cNvPicPr/>
          <p:nvPr/>
        </p:nvPicPr>
        <p:blipFill>
          <a:blip r:embed="rId1"/>
          <a:stretch/>
        </p:blipFill>
        <p:spPr>
          <a:xfrm>
            <a:off x="1279440" y="174960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3" descr="C:\Documents and Settings\Nicole Chinadle\Local Settings\Temporary Internet Files\Content.IE5\R18KOF21\MPj04394970000[1].jpg"/>
          <p:cNvPicPr/>
          <p:nvPr/>
        </p:nvPicPr>
        <p:blipFill>
          <a:blip r:embed="rId2"/>
          <a:stretch/>
        </p:blipFill>
        <p:spPr>
          <a:xfrm>
            <a:off x="4038480" y="4952880"/>
            <a:ext cx="1905120" cy="127188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5"/>
          <p:cNvSpPr/>
          <p:nvPr/>
        </p:nvSpPr>
        <p:spPr>
          <a:xfrm>
            <a:off x="5943600" y="2666880"/>
            <a:ext cx="228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Jon is delinquent on the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f he contacts the loan company, they may be able to work with h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ositive Credit Practic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295280" y="1905120"/>
          <a:ext cx="7315200" cy="39780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Posi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actice good banking techniques, such as keeping a checkbook balanced, managing accounts online, and not bouncing any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ay bills consistently and on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aintain reasonable amounts of unused cred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pply for credit sparingly, thus keeping credit inquiries to a minim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heck credit reports annually and search for err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Negative Credit Practic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1295280" y="1981080"/>
          <a:ext cx="7315200" cy="28656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Nega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aving non-sufficient funds (NSF) when writing checks, also known as bouncing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Routinely paying late on credit cards, utility, and cell-phone b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axing out limits on credit c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Numerous credit applications in a short period of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When Credit is not established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120636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lthough the following are all positive financial habits, no credit is established when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is never us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ccounts are not in own nam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ash is paid for all major purchas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hone and utility bills are paid on tim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t only negatively impacts a score if payments are lat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Building credi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208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mportant for consumers to build a credit history to be able to purchase items on credi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r example – house, vehicl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aving no credit history may be just as challenging to a consumer as having a negative histo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015" name="Picture 4" descr="1s11o3bb[1]"/>
          <p:cNvPicPr/>
          <p:nvPr/>
        </p:nvPicPr>
        <p:blipFill>
          <a:blip r:embed="rId1"/>
          <a:stretch/>
        </p:blipFill>
        <p:spPr>
          <a:xfrm>
            <a:off x="6629400" y="4495680"/>
            <a:ext cx="183204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2009 CARD 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1980720" y="1599840"/>
            <a:ext cx="6032520" cy="114300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txBody>
          <a:bodyPr anchor="t">
            <a:normAutofit fontScale="95000"/>
          </a:bodyPr>
          <a:p>
            <a:pPr marL="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hanged how young adults receive certain types of credi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18" name="Rectangle 3"/>
          <p:cNvSpPr/>
          <p:nvPr/>
        </p:nvSpPr>
        <p:spPr>
          <a:xfrm>
            <a:off x="114300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 receive a credit ca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  <a:ea typeface="Arial"/>
              </a:rPr>
              <a:t>Generally must be 21 years of age or 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aur"/>
                <a:ea typeface="Arial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  <a:ea typeface="Arial"/>
              </a:rPr>
              <a:t>Show documentation of sufficien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  <a:ea typeface="Arial"/>
              </a:rPr>
              <a:t>Have a co-sig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Establishing Credi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206000" y="1676520"/>
            <a:ext cx="47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trategies to build credit include acquiring and positively managing small lines of cred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-sign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ecured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Require a cash security deposit to ensure payment of the car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mall loan from financial institu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1" name="TextBox 3"/>
          <p:cNvSpPr/>
          <p:nvPr/>
        </p:nvSpPr>
        <p:spPr>
          <a:xfrm>
            <a:off x="6858000" y="1752480"/>
            <a:ext cx="1981080" cy="411732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f someone is a co-signer on a an account, they are equally as responsible and their credit report is impa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Box 4"/>
          <p:cNvSpPr/>
          <p:nvPr/>
        </p:nvSpPr>
        <p:spPr>
          <a:xfrm>
            <a:off x="1295280" y="5418000"/>
            <a:ext cx="76201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OES ISABELLA HAVE ANY CO-SIGN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MPACT DOES HER ACTIONS HAVE ON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848720" y="541008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History Reporting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32" name="Content Placeholder 3" descr=""/>
          <p:cNvPicPr/>
          <p:nvPr/>
        </p:nvPicPr>
        <p:blipFill>
          <a:blip r:embed="rId1"/>
          <a:stretch/>
        </p:blipFill>
        <p:spPr>
          <a:xfrm>
            <a:off x="2011320" y="1865160"/>
            <a:ext cx="7016760" cy="4230720"/>
          </a:xfrm>
          <a:prstGeom prst="rect">
            <a:avLst/>
          </a:prstGeom>
          <a:ln w="0">
            <a:noFill/>
          </a:ln>
        </p:spPr>
      </p:pic>
      <p:grpSp>
        <p:nvGrpSpPr>
          <p:cNvPr id="833" name="TextBox 4"/>
          <p:cNvGrpSpPr/>
          <p:nvPr/>
        </p:nvGrpSpPr>
        <p:grpSpPr>
          <a:xfrm>
            <a:off x="-146160" y="3297240"/>
            <a:ext cx="2340000" cy="1039320"/>
            <a:chOff x="-146160" y="3297240"/>
            <a:chExt cx="2340000" cy="1039320"/>
          </a:xfrm>
        </p:grpSpPr>
        <p:pic>
          <p:nvPicPr>
            <p:cNvPr id="834" name="TextBox 4" descr=""/>
            <p:cNvPicPr/>
            <p:nvPr/>
          </p:nvPicPr>
          <p:blipFill>
            <a:blip r:embed="rId2"/>
            <a:stretch/>
          </p:blipFill>
          <p:spPr>
            <a:xfrm>
              <a:off x="-146160" y="3297240"/>
              <a:ext cx="2340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0" y="3389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aur"/>
                </a:rPr>
                <a:t>What they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TextBox 5"/>
          <p:cNvGrpSpPr/>
          <p:nvPr/>
        </p:nvGrpSpPr>
        <p:grpSpPr>
          <a:xfrm>
            <a:off x="-60480" y="4591080"/>
            <a:ext cx="2175120" cy="1467360"/>
            <a:chOff x="-60480" y="4591080"/>
            <a:chExt cx="2175120" cy="1467360"/>
          </a:xfrm>
        </p:grpSpPr>
        <p:pic>
          <p:nvPicPr>
            <p:cNvPr id="837" name="TextBox 5" descr=""/>
            <p:cNvPicPr/>
            <p:nvPr/>
          </p:nvPicPr>
          <p:blipFill>
            <a:blip r:embed="rId3"/>
            <a:stretch/>
          </p:blipFill>
          <p:spPr>
            <a:xfrm>
              <a:off x="-60480" y="4591080"/>
              <a:ext cx="21751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0" y="4684680"/>
              <a:ext cx="2057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aur"/>
                </a:rPr>
                <a:t>Additional In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Right Arrow 6"/>
          <p:cNvGrpSpPr/>
          <p:nvPr/>
        </p:nvGrpSpPr>
        <p:grpSpPr>
          <a:xfrm>
            <a:off x="2225520" y="5803920"/>
            <a:ext cx="6747120" cy="596880"/>
            <a:chOff x="2225520" y="5803920"/>
            <a:chExt cx="6747120" cy="596880"/>
          </a:xfrm>
        </p:grpSpPr>
        <p:pic>
          <p:nvPicPr>
            <p:cNvPr id="840" name="Right Arrow 6" descr=""/>
            <p:cNvPicPr/>
            <p:nvPr/>
          </p:nvPicPr>
          <p:blipFill>
            <a:blip r:embed="rId4"/>
            <a:stretch/>
          </p:blipFill>
          <p:spPr>
            <a:xfrm>
              <a:off x="2225520" y="5803920"/>
              <a:ext cx="67471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2286000" y="5961240"/>
              <a:ext cx="6508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Requesting A Credit Repor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1066320" y="17524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One free credit report annually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aur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of the three credit reporting agen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scores are available for a small fe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6" name="TextBox 7"/>
          <p:cNvSpPr/>
          <p:nvPr/>
        </p:nvSpPr>
        <p:spPr>
          <a:xfrm>
            <a:off x="1066680" y="3271680"/>
            <a:ext cx="7848720" cy="4597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ccess the website: annualcreditreport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Box 8"/>
          <p:cNvSpPr/>
          <p:nvPr/>
        </p:nvSpPr>
        <p:spPr>
          <a:xfrm>
            <a:off x="1066680" y="3957480"/>
            <a:ext cx="7848720" cy="4597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Calling toll free: 1-877-322-8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9"/>
          <p:cNvSpPr/>
          <p:nvPr/>
        </p:nvSpPr>
        <p:spPr>
          <a:xfrm>
            <a:off x="1066680" y="4602240"/>
            <a:ext cx="7848720" cy="15570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Send a written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nnual Credit Report Reques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PO box 1052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tlanta, GA 30348-52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nnualcreditreport.com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030" name="Picture 2" descr=""/>
          <p:cNvPicPr/>
          <p:nvPr/>
        </p:nvPicPr>
        <p:blipFill>
          <a:blip r:embed="rId1"/>
          <a:srcRect l="0" t="28125" r="22655" b="4690"/>
          <a:stretch/>
        </p:blipFill>
        <p:spPr>
          <a:xfrm>
            <a:off x="2666880" y="2819520"/>
            <a:ext cx="4748400" cy="3429000"/>
          </a:xfrm>
          <a:prstGeom prst="rect">
            <a:avLst/>
          </a:prstGeom>
          <a:ln w="9360">
            <a:solidFill>
              <a:srgbClr val="003e7e"/>
            </a:solidFill>
            <a:miter/>
          </a:ln>
        </p:spPr>
      </p:pic>
      <p:sp>
        <p:nvSpPr>
          <p:cNvPr id="1031" name="TextBox 5"/>
          <p:cNvSpPr/>
          <p:nvPr/>
        </p:nvSpPr>
        <p:spPr>
          <a:xfrm>
            <a:off x="1066680" y="1760400"/>
            <a:ext cx="7848720" cy="11912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nnualcreditreport.com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aur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 government sponsored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Other sites may be fraudulent or charge a 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Mistakes in 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mportant to check each credit report annually to correct mistake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wo common erro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aud (identity theft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istaken identi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hen a lender reports a transaction on the wrong person’s credit repor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Fair Credit Reporting 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Gives consumers the right to review and correct their repor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f a person is denied credit, they have the right to request their credit report from the credit reporting agenc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within 60 days it is free of char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orrecting Errors on 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037" name="Content Placeholder 5" descr=""/>
          <p:cNvPicPr/>
          <p:nvPr/>
        </p:nvPicPr>
        <p:blipFill>
          <a:blip r:embed="rId1"/>
          <a:stretch/>
        </p:blipFill>
        <p:spPr>
          <a:xfrm>
            <a:off x="1116000" y="1901880"/>
            <a:ext cx="7881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orrecting Errors on 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039" name="Content Placeholder 5" descr=""/>
          <p:cNvPicPr/>
          <p:nvPr/>
        </p:nvPicPr>
        <p:blipFill>
          <a:blip r:embed="rId1"/>
          <a:stretch/>
        </p:blipFill>
        <p:spPr>
          <a:xfrm>
            <a:off x="1116000" y="1901880"/>
            <a:ext cx="7881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pperplate Gothic Light"/>
              </a:rPr>
              <a:t>Credit Repair Agencies</a:t>
            </a:r>
            <a:endParaRPr b="0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84240" y="1676160"/>
            <a:ext cx="770256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Offer to help a consumer “fix” his/her negative credit report</a:t>
            </a:r>
            <a:endParaRPr b="0" lang="en-US" sz="27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spcBef>
                <a:spcPts val="6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According to the Better Business Bureau (BBB) and the Federal Trade Commission (FTC):</a:t>
            </a:r>
            <a:endParaRPr b="0" lang="en-US" sz="27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nsumers can do just as good of a job repairing their credit report errors as a fee based debt repair agency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Be cautious of debt repair agencies promising instant help because there is no immediate fix for negative credi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042" name="Picture 2" descr="C:\Documents and Settings\Nicole Chinadle\Local Settings\Temporary Internet Files\Content.IE5\WZY63ZWM\MCBS01776_0000[1].wmf"/>
          <p:cNvPicPr/>
          <p:nvPr/>
        </p:nvPicPr>
        <p:blipFill>
          <a:blip r:embed="rId1"/>
          <a:stretch/>
        </p:blipFill>
        <p:spPr>
          <a:xfrm>
            <a:off x="7238880" y="4800600"/>
            <a:ext cx="16988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dvice Isabella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was given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From Angi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914040" y="2174760"/>
            <a:ext cx="3886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ratings improve as people get older and income increas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sabella’s credit score will improve when she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oves to a better side of tow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Gets a better interest rate on loa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s promote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3584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From Geor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5102280" y="2174760"/>
            <a:ext cx="3889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hopping around too much for credit is not good because it increases inquiri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Opening new accounts, even if not used, provides evidence of credit worthines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lose old accounts, including those with loans not paid on time to wipe the slate clea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8" name="TextBox 9"/>
          <p:cNvSpPr/>
          <p:nvPr/>
        </p:nvSpPr>
        <p:spPr>
          <a:xfrm>
            <a:off x="1143000" y="5867280"/>
            <a:ext cx="7620120" cy="4597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AS THE ADVICE GOOD?  WHY OR WHY N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8229600" y="5943600"/>
            <a:ext cx="40320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ill Isabella receive her dream job? 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dvice would you give Isabella to improve her credit report and score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at should she do immediately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at recommendations would you suggest she employ in the near future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1" name="TextBox 9"/>
          <p:cNvSpPr/>
          <p:nvPr/>
        </p:nvSpPr>
        <p:spPr>
          <a:xfrm>
            <a:off x="1143000" y="228600"/>
            <a:ext cx="7620120" cy="13129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aur"/>
              </a:rPr>
              <a:t>CREDIT REPO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aur"/>
              </a:rPr>
              <a:t>DETECTIVES AD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162920" y="252360"/>
            <a:ext cx="14698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90720" y="2895480"/>
            <a:ext cx="76564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pperplate Gothic Light"/>
              </a:rPr>
              <a:t>ANY QUESTIONS?</a:t>
            </a:r>
            <a:endParaRPr b="0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990720" y="2906280"/>
            <a:ext cx="75038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Reporting Agenci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20636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cquire information from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44" name="Diagram 3" descr=""/>
          <p:cNvPicPr/>
          <p:nvPr/>
        </p:nvPicPr>
        <p:blipFill>
          <a:blip r:embed="rId1"/>
          <a:stretch/>
        </p:blipFill>
        <p:spPr>
          <a:xfrm>
            <a:off x="1365120" y="2266920"/>
            <a:ext cx="71024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120636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formation can be divided into 4 categories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ersonal Informat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ccounts Summa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ublic record items related to credi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Inquirie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6" name="Title 3"/>
          <p:cNvSpPr/>
          <p:nvPr/>
        </p:nvSpPr>
        <p:spPr>
          <a:xfrm>
            <a:off x="914400" y="2746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nformation in a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1295280" y="4876920"/>
            <a:ext cx="7467840" cy="155700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Lender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aur"/>
              </a:rPr>
              <a:t>may or may not</a:t>
            </a: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 report information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ll three credit reporting ag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n individual’s information may be different in each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ersonal Information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Personal Inform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37720" y="2285640"/>
            <a:ext cx="3659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ame and alias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urrent and past address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ocial security numb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ate of birt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mployment history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88000" y="1645920"/>
            <a:ext cx="411480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Personal Information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788000" y="2285640"/>
            <a:ext cx="4114800" cy="380988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Name – Isabella G. Langley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Addresses – 101 Hopeful Ave. &amp; 695 Parent Street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Date of birth – 05/04/86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Telephone numbers –           555-354-2368 &amp; 555-198-2358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Employers – Lucky’s Restaurant &amp; Jane’s Daycare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3" name="TextBox 14"/>
          <p:cNvSpPr/>
          <p:nvPr/>
        </p:nvSpPr>
        <p:spPr>
          <a:xfrm>
            <a:off x="1066680" y="4952880"/>
            <a:ext cx="35053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FIND ISABELL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ERS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200400" y="5105520"/>
            <a:ext cx="1217520" cy="990360"/>
          </a:xfrm>
          <a:prstGeom prst="rect">
            <a:avLst/>
          </a:prstGeom>
          <a:ln w="0">
            <a:noFill/>
          </a:ln>
        </p:spPr>
      </p:pic>
      <p:sp>
        <p:nvSpPr>
          <p:cNvPr id="855" name="Straight Connector 17"/>
          <p:cNvSpPr/>
          <p:nvPr/>
        </p:nvSpPr>
        <p:spPr>
          <a:xfrm>
            <a:off x="5029200" y="2286000"/>
            <a:ext cx="36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ccounts Summary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90360" y="1523880"/>
            <a:ext cx="3506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ypes of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ate the account was opene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limit or loan amoun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ccount balanc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ayment history, including missed or late payme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2520" y="1218960"/>
            <a:ext cx="403884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952520" y="1828440"/>
            <a:ext cx="4038840" cy="42973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am’s Electronic Worl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ity of Anywher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inancial Institution School Loa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hop ‘Til You Drop Store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ve to Read Store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he Free Money Credit Card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counts Summa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61" name="TextBox 8"/>
          <p:cNvSpPr/>
          <p:nvPr/>
        </p:nvSpPr>
        <p:spPr>
          <a:xfrm>
            <a:off x="1066680" y="4876920"/>
            <a:ext cx="3505320" cy="13136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WHAT 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DOES ISAB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HAVE ACCOU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WI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278160" y="5257800"/>
            <a:ext cx="1217520" cy="990720"/>
          </a:xfrm>
          <a:prstGeom prst="rect">
            <a:avLst/>
          </a:prstGeom>
          <a:ln w="0">
            <a:noFill/>
          </a:ln>
        </p:spPr>
      </p:pic>
      <p:sp>
        <p:nvSpPr>
          <p:cNvPr id="863" name="Straight Connector 12"/>
          <p:cNvSpPr/>
          <p:nvPr/>
        </p:nvSpPr>
        <p:spPr>
          <a:xfrm>
            <a:off x="4952880" y="1828800"/>
            <a:ext cx="4038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1:30:39Z</dcterms:created>
  <dc:creator>itcmaint</dc:creator>
  <dc:description/>
  <dc:language>en-US</dc:language>
  <cp:lastModifiedBy>amason</cp:lastModifiedBy>
  <dcterms:modified xsi:type="dcterms:W3CDTF">2011-04-12T13:23:03Z</dcterms:modified>
  <cp:revision>1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11033</vt:lpwstr>
  </property>
</Properties>
</file>